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EDD-93C3-46DC-8DDA-B94E084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C6E-1C73-41DE-BEED-C66E44E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5E256-F529-42B5-A88E-CA0BFBAF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17DCA-0745-40E2-970F-35B8294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DA56-8ED5-42A5-8CD4-D32196F2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CD794-0CB0-4C4C-BAB2-C0FD4CB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0477-8A65-498D-94E2-459BCC1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6157B-D64C-4E81-A72D-476831A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4DAF-ED2A-4386-A5A4-D3AD9C6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A5124-B0AE-4B19-A737-5D4CB3D4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E03B-CC67-4023-83A6-AF01C3EF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B20D1-D115-4358-8F92-06FCB575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9B9-E199-4E30-9CCC-52F28986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77779-C483-4260-B45F-58A00D64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F8BDB-F9F8-4DFC-915E-6815908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251E0-C524-45ED-9397-373EEE12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2B24-27C5-4C26-83A6-CE83E02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EDAEA-3C36-4AC9-AF9A-394052C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77A21-5DDA-4AB0-B1F7-82D54B2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B3A8F-CDB4-47BB-9C6D-B041267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23414-5EB4-4D80-846C-44CD6D6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AEB1C-4188-4AAF-8030-F4D67FA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0B05-85FA-4224-B77D-E903D85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FD0-108E-4591-9BA9-72A47F18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C0E24-BF7E-4A20-8CFA-A218D06F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1A211-13C5-4D2A-9750-04F86609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356F-7DCD-4671-93E8-9FDE200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99AF4-D7C8-4BC3-AC87-C1968060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A336A-435F-4367-BD29-969C234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2C95-EF94-4B31-AFF5-14A8B42A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63722-7DCB-4EFB-A57D-841871C3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BAE17-D525-45D2-B54F-AA6968E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248E4-32B9-464B-9EF4-A25E01D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476E-7549-4BB6-A7B0-033C807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F56-5A02-40E4-8084-7BDCD48F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8E30F-7C26-4DEA-877F-F9A6722D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FE1D3-C794-4D16-9014-967005F2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2563-2787-4529-B472-EB2ED6E4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B7C26-0DB0-4E28-ABB4-6282A21E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9A3B6-32E6-46B3-B98C-2BDC8A3A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0CE1-E6A1-4CF5-954C-1C98269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7B113-D565-43BF-910E-5404F9B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856C1-71E7-476C-9A22-B7A59999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CC0D7-CEB3-48B3-BDEC-E16952CA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55DA2-0E59-4B65-A4DB-B6C0D6C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1501-790E-49FD-A6EB-D52D5A6A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B95A-A999-4EE6-A69A-DB2AFFF3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F733F-8DDB-4C77-BC7F-6C949D2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BE61-37C1-48C4-B4E9-ED3C8AED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C4F6E-DE15-412C-89E5-9B51F67B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0E686-CD69-47A6-8D66-880DBCB3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24CC4-28D4-49F2-A439-044593F5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FF8BF-9CB7-41FD-B859-2E8BE5B3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2CE8D-96B7-48F4-9998-1C440E9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A27D7-858D-4FDD-AE24-D096AECE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063C4-AEE9-4392-A252-DD7BA0C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3742-26ED-4719-9B70-189F1E0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6537A-873A-43AE-9E3D-A17F3F3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0156C-F879-42B9-9F92-A8C2E4E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17D4B-8CAE-4FF0-86F4-311094E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05FCF-0F1D-4B6C-BFDC-1585144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1A5D4-2788-4B78-8275-82CAC9AE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0C3A6-F0A9-482F-AE7E-F2828710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47819-1B3D-45CA-938F-F322C19A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B6190-D824-46CF-A308-1E367B54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7EFDB-4A75-4A95-9A90-917AA368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05AA5-CE46-46FC-8E8C-B7C071B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8248-0992-4F8E-8AD0-AAEA74E3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64D45-D657-43E2-85BA-4B7AD2F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AE89D-8961-4931-9331-28485D1B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18E86-341D-4F28-AE51-3A79243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DC38F-2100-4971-9FF8-D13ACCAD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4E95C-8C61-431C-BCF0-5CA6FF9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66868-809D-4567-B7EC-AEE43C0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39C79-9C21-44C1-B080-FBD3D471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459A3-C8DB-4D31-A05A-B69D283F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E0728-08E7-41F0-9C6D-13835E44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312C5-2858-4B33-B70F-D6FD3CFE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223-966A-4EAF-A57B-E96F689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57687-B8F3-4A47-A3D8-C4DA2FB4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5368C-7D64-44C8-BCEA-0E628F3D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33C85-76E6-4FAA-A2A1-CF7DE9B3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FBF7A-51BD-4333-AEF6-BC5A2026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B4364-306E-4F5D-9D61-00E47A8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52403-DD47-471B-8030-A0F78085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16713-8319-4F67-B3BD-6CA20D5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0F874-6DFE-4B4E-87D9-E3A15B9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4CB19-4DE0-4BFC-B092-D8FFF03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A5174-1FD2-4993-A8FE-A6502764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F22-D836-4976-B08C-93E96F9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74876-EBFF-407B-A179-1667CA0D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57893-3E18-468A-967A-A1AF1A81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B0656-EB1D-4CCF-BE5F-1DFEC1B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949ED-9042-4DDA-89D6-84736C2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50DDD-15C5-4A97-BD21-C516710F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875E8-C9C2-4198-BD61-004317A9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EFA17-409F-402E-875A-A7C7D6B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4979A-E1A0-4E70-803A-3E20BC9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934E1-C1F1-4C81-B51D-E375DD9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E44FA-9C5B-4455-B336-E7F827A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DAF0-D656-499B-B144-4141DF3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02B8A-4071-461C-A596-88D6503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00B43-CC72-49FB-B0C2-2CEDC7CE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63AF1-8C9E-487D-943E-3C73ECC8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952DE-467F-41D6-AB9B-B622B446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CEDA5-7CBF-440D-823F-1172CBF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44912-3E7D-4A98-A18A-05C0B8D4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668F1-061D-4DDF-93B0-CDE8D81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3F19D-15BF-4A89-95A3-ACBF333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E3CC0-9C72-4281-BE41-5FF0353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573BF-8C56-4E9D-8584-70E8A39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D45-0D43-419E-93B6-8F519268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4D63-DC11-4799-8DC3-CC6DB1E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251E1-0BDE-42E0-B694-CB7931E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487F0-8E9B-4E5C-ACBE-3A118C3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97508-6347-48BC-9EA5-714FA993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9ADFD-B03B-4304-8F94-A3AFECCE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C2B97-E884-4F71-9A9C-166F2767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BDC1E-5B3B-48FF-B173-D32BB871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60F5C-503C-474C-9B2E-31FF379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6837E-522B-41B9-8C3A-8803E79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DAB0A-9B71-4472-8CDB-806DB5A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D7A5B-11BE-4CAF-B750-0A03793B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8BC-4C89-4F5D-8D63-83C40C0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41EDF-FEAE-4CD4-9EAF-AA50CA19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9FA01-093D-4FAC-AA12-8DB2DE0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8115D-09C5-46F3-9D91-968DE96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D5C82-B734-44C3-9A62-B8BF970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3DCBE-EC9F-4611-925C-6C46E24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E40C7-E5C0-43D2-9BAE-5319165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5A56A-E5FA-4B14-9F84-21F016A9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021C5-4F24-4D3C-8A7C-5E81FDD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D93F2-119C-46F6-A0E2-7E8F473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13F83-0D98-431F-B6E2-07F4380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6286-ADB4-4C2E-8D64-AD03D34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CEFEC-53A4-48D2-B6FB-1B7C16F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5A1E1-08D0-46C1-AE11-590CB3E3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CCE8A-952C-4FE8-B420-6ADFDD5E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595DD-8B79-46CF-B224-0F32151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41AAE-7B26-4336-9EC3-11B0338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5FFE1-F0EC-43A2-BD11-F0B135C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D4F66-F005-4D56-8F83-DB69B01F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EFACA-7448-40A9-97D9-DE51AD8F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EB873-333B-417B-A8D7-79EF569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81433-1E38-483E-9593-2D0C7C7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8826-5637-4EF8-A80E-7CABFC9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50BFD-8B32-4DAD-81DD-7A469A5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D893AB-BFC1-436E-A318-1135481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FBAC0-D663-46C5-BD88-455F5D0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B8DB6-CC0E-40F9-BC65-4567C6F8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98B28-2993-4D68-A3A9-3E0E0A0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F7121-1200-432C-9134-BAEEDE0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B69A1-5AFE-46A7-A641-A9B1FD2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73272-D599-4153-83D4-282C1DEE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35E2A-BAD9-43E4-982B-DDA5A52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2BEB2-DE53-4875-8B20-2A4EE685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FBD2-62FD-4511-9625-3BF5BF33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E1E9A-BD52-4183-ADBB-5332A029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1B5E8-DAEC-4A03-9629-BEBED562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A863A-17C6-43A1-894E-311B93A9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60284-E963-47FE-97B3-18739F1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CD8C7-12F4-4F7F-93FD-7E4869BF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97EFB-CD4E-4842-B69A-15D69EF3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175DCF-273E-4F18-8B02-BD221EE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581EF-5D0E-4054-AA21-4B33A4C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1E53D-41F6-4EE3-8B7E-FCAD1FC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9ADE4-17CC-4698-B18F-5269BAB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7BBD-43C5-4447-99A5-0872B02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66C2A-0488-45C1-9A07-590CF72E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E25F7-AA5A-467F-A93C-2A411FB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66088-1570-481C-8D6C-59B84CBC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76A1-6F17-4426-86EB-AF3120D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0663-AAFD-47AF-982F-4B582F7A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0624-F958-412E-9CA3-72946B5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C6ED-C89F-45A8-8104-81A9572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72B-147A-4E88-AD91-CBCB695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C339-D2ED-4B21-A270-16D8A78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3CE7-76B4-4F8A-8D5A-146AD90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620A-F66F-412F-A9F8-B8D7A9D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8726-C326-401A-A568-14123A20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2508-D86C-4556-BBCD-65F9DC0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FF82-FF42-43D0-90AF-FC79264C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654B-99AD-4644-A511-E832F259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9F55-7078-4B13-BDB4-F085975C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B1CD-1128-43B9-B043-7F7397F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37FC-217F-4C30-A841-F0836FF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C71-5F21-437C-92DB-FDF11DF7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D464-F221-42D4-AF01-8F16E32A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FE42-8068-47CA-8BA8-ED6C0A7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CBAB-2AE7-4961-8E2A-A20DCDE8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CA7C-E91C-482B-BE7B-6FE4150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BD25-C73D-48B1-AD83-786F4E9F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7915-3E09-4EB7-83EA-EE1CC11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38C1-8F37-42F2-BF5F-8FF177B4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4753-BAA1-4738-93EF-0EBD1686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85A8-D28C-4AF1-B478-162573D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C0BF9-DF1A-4DAD-B24B-2320A1A0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8EB-BB9C-43AA-9080-8DC0DB20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701B-AB2B-4457-A992-6F08360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87E4-8D65-473B-B269-753CA37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FF62-8BF6-4E86-ADA7-77D40240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F71A-D710-45D8-A027-868F2DD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CCBE-6F7F-4B28-89FD-BCF98B2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0590-5902-4AC9-B433-167D1B2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6AAD-8D1F-42CB-BF53-8ECF2E39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D7BF-8308-4F1B-9114-2F6944E6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BB7F-6E09-4BD8-BE52-4EBC5D5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D43C-8119-42F0-B6AA-C0006BB2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4D6-3503-424E-9DF7-97B3EBE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BB5F-3E5F-4945-A52D-011EF4B3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9842-0B67-4EA7-933D-F5F57205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0C119-6D76-4108-8E8B-131E852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FC90-A79F-4106-9DC0-F41BAE4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43717-AF42-4828-987C-4555A7A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DB97E-E1A0-4C45-A1C5-50FA39CD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B670-E70E-43EA-9305-110B170D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938D-AFEC-4222-BEF6-0151E2C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EA93B-DB74-4D4C-81C7-61729EE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7DDB-073B-468A-8153-E6B06BE8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F66-A911-413D-929D-7B39D07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B191-E976-4036-AB7F-B23F1CE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5F87-3FB2-4E0F-8A98-AA8A7D47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01BF-3BF5-4FE1-952C-6C08B8B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FC7D-1D7A-47F6-9325-5AC94BB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E465-16E7-4A97-AF87-841D0A5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033CA-E185-4E87-864F-179D7B1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69BB-9E8C-4F31-A6DE-E9F40BF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8717-E26D-413E-9E27-75D84CD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ADB42-9388-4783-94AC-23E6B80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9EBF-2E4C-4087-86E6-D6E8630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D99-30D0-481E-B689-395F13A7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CF82-1D55-48FD-926F-2CB9DE0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B362-2A8A-4B12-8C43-22EF3A2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B0F6-1164-4BAB-8AF1-AB0B2408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A34F-C6E4-4E0E-BA1E-E045EC73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0FF22-75D0-47FF-8D95-EAA647BD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B0AC-4AC5-414E-846E-FFCC85B0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8F61-5022-474B-8D12-A6D329D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A10E-4E2C-4275-8BC3-7912B87A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5733-F1F1-4822-B6E4-158C4B1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68097-9839-416F-8AD3-5125885D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8F2-1CA7-48B4-9A0B-23A443AB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EE42-A25B-4CB8-BB9A-5DC21956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F91E-DC02-410E-A4EB-F559E80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DF09-6F46-4E9D-A23B-8A9C81C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4DD4-41F1-4078-8B0E-DBD296D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FB654-57F6-4F67-9AFF-DB7F28ED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FDE3A-9C4C-47A4-9089-BD5D5FAE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F5719-07C8-452B-9EDF-11EA45B8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E230F-0E04-46B1-9922-7ABB296B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34737-6EA7-49A9-90D0-5212CAE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82A6-30E6-45D2-8B5D-AB19EF3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31B-766B-4608-87E2-CA05FE3D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1E3-9048-475B-9E34-817D77CB8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251-33A5-4326-97AD-3758AF18F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BE1-4843-458E-871F-A41C521EA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6C8-0BD2-49F8-AEF3-2A6C923F12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3FCC-74F8-43EA-B409-5AE1F54F9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9AF7-6C20-40F9-8933-288E0ADE7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93E-6AB0-4638-901C-2D1A8EC7B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D79-5595-4BB2-878D-7365F3CA56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E581-81AA-497D-A88B-A91ED1151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D03B-B349-40FE-8222-8FD1B2372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5CF-3CFA-4AF9-881C-7FD8E2B17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830-32C5-49FE-98B4-BB96F3F6E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8E6-1A9F-4AD9-BE5F-7431D8D0D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6004-0B27-449D-95D8-DEC0D264C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C0CE-35EF-4120-B3D0-4409C9A34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6051-9F1B-4F79-A885-FA937A356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776-4A28-4779-801C-0C57E9231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871-3EB2-4404-A5BB-3AAFF430D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C99-C1ED-43D9-902B-58F6E49FD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4F43-DF47-42DB-A339-ADF12EB69B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5396-BDA6-4264-A1BE-8F26DAEE9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9CD9-E5D0-456A-AB7A-FAC9A6C5B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BAC-6827-4BFE-A0D6-7BE43DC34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DBD-DB25-4ACC-9070-D063AF5A1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7624-7DF2-4494-9474-AEA368A26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AAD-46CC-4B0F-B586-8CD434732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3D82-727B-4D84-B114-BEE669DA5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AF11-C951-4FD2-95A8-B91D9F06F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0E2-64B3-47A6-ACF0-C45C47A67A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B97-124C-4783-8ED9-D9840723F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0F0-0BCA-48CD-AD94-341942A004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4076-E538-4C9C-8887-29BB8DB28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ADF-459A-4282-B1EE-00720BC6C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707-97B5-4023-A25B-C054DE716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8EA-CC31-41E3-9A69-7A43CF65D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709-390C-4350-A0E5-CE98CBDB35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4C6-0921-41A8-9B33-7C21C6380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5F7-4669-41F8-B8DD-B465CFEFF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06C8-B4E1-43B2-8E61-67E8948C1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50004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8134200" cy="56674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214280" y="464328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4786200" y="564372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10520" cy="58960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1214280" y="78588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3286080" y="1285920"/>
            <a:ext cx="18576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7572240" y="1785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571680" y="2286000"/>
            <a:ext cx="114300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4357800" y="2786040"/>
            <a:ext cx="114300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4506840" y="3263760"/>
            <a:ext cx="13575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3786120" y="421488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1857240" y="5214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3929040" y="5715000"/>
            <a:ext cx="192888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2105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71600" y="947880"/>
            <a:ext cx="8200800" cy="4962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85716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857160" y="4000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857160" y="4500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857160" y="4929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95360" y="1386000"/>
            <a:ext cx="8153280" cy="40860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00080" y="1500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000080" y="2500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1000080" y="300024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"/>
          <p:cNvSpPr/>
          <p:nvPr/>
        </p:nvSpPr>
        <p:spPr>
          <a:xfrm>
            <a:off x="1000080" y="3500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"/>
          <p:cNvSpPr/>
          <p:nvPr/>
        </p:nvSpPr>
        <p:spPr>
          <a:xfrm>
            <a:off x="1000080" y="4000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7"/>
          <p:cNvSpPr/>
          <p:nvPr/>
        </p:nvSpPr>
        <p:spPr>
          <a:xfrm>
            <a:off x="1000080" y="4500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91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229600" cy="3448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500120" y="4572000"/>
            <a:ext cx="5058000" cy="4762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857160" y="2786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728640" y="1390680"/>
            <a:ext cx="7686720" cy="407664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1071720" y="1500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1071720" y="3000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542880" y="1424160"/>
            <a:ext cx="8058240" cy="400968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785880" y="1500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900000" y="2181240"/>
            <a:ext cx="7344000" cy="249552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1285920" y="2214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5:5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